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5E4-61B0-4F75-9BC9-016FB035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D68-17FE-4D8C-9A26-4BD10F48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8D7-4979-4AB2-A904-D9575159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956-56F7-469F-AF92-14E56D8F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6886-F798-4765-9B5D-063ADFF5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5BB4-94E8-48C3-AE62-F9F72D1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3266-C700-4501-8B0D-E5CDBE7B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C3CC-9E62-486B-BF76-66E4AC8B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8AEB-B487-4B39-9F43-D4CEFDD0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1F13-D1DA-454F-9AA0-0281F347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3D6B-75B2-4E77-8B01-03CD3990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11F-E36C-4E76-91BA-27E3DFF4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3C25-2C16-4B62-97EA-00DED11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A027-3BE7-4BC3-BFC9-449B1D5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A60B-F00A-46FC-B8CB-48038F82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0A76-93E0-4941-B04B-DF961C5D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77DF-4262-4A49-BB64-25478F4B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3A1-B22D-4CAA-ADDC-959A8C87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8C1-470F-478E-B4F8-FA5B3D3B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DFB-8983-4455-AA26-403B2F80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CB7-F7B9-4471-9B04-9108EF75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3EB-B350-4F89-90E4-78C9A6D3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426-8356-444B-9992-9EAF2D9A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BCB-2CFC-4F27-A851-EEECA1D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F29F-A8FF-4393-84B4-7BACEA15EC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7B89-4D98-4B7E-BA23-2273FD6882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am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0000" y="836640"/>
            <a:ext cx="46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OTIMPUR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am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331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9054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8:59:47Z</dcterms:created>
  <dc:creator>AS</dc:creator>
  <dc:description/>
  <dc:language>en-US</dc:language>
  <cp:lastModifiedBy>AS</cp:lastModifiedBy>
  <dcterms:modified xsi:type="dcterms:W3CDTF">2010-01-05T19:39:58Z</dcterms:modified>
  <cp:revision>5</cp:revision>
  <dc:subject/>
  <dc:title>Diapozitivul 1</dc:title>
</cp:coreProperties>
</file>